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129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34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136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50.png" ContentType="image/png"/>
  <Override PartName="/ppt/media/image147.png" ContentType="image/png"/>
  <Override PartName="/ppt/media/image143.png" ContentType="image/png"/>
  <Override PartName="/ppt/media/image51.png" ContentType="image/png"/>
  <Override PartName="/ppt/media/image4.jpeg" ContentType="image/jpeg"/>
  <Override PartName="/ppt/media/image144.png" ContentType="image/png"/>
  <Override PartName="/ppt/media/image52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135.png" ContentType="image/png"/>
  <Override PartName="/ppt/media/image141.png" ContentType="image/png"/>
  <Override PartName="/ppt/media/image5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42.png" ContentType="image/png"/>
  <Override PartName="/ppt/media/image56.png" ContentType="image/png"/>
  <Override PartName="/ppt/media/image94.png" ContentType="image/png"/>
  <Override PartName="/ppt/media/image26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98.png" ContentType="image/png"/>
  <Override PartName="/ppt/media/image1.jpeg" ContentType="image/jpe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8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CEA-18E7-46A1-8384-58D25F7B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F45-C221-418D-B291-1EB13997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E51-5EE0-4386-A5A1-5A8EEE8C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768-2B6A-44D2-95F6-2C5C75CF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F71B-3485-4CFC-B172-86085F79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2017-733E-4351-B44E-D20DE5D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F0B5-FF2A-4D1B-894D-A59AC85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1B39-6B0D-4B02-949C-904C94F3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4FE5-7A90-4825-BF5F-64F9A4C8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A57F-8BEE-4F2F-ACBC-FFD5EF12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017F-1397-4B60-9722-C9CA0363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263-DE66-4877-8ACF-DE1D1F06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A5CD-CC4F-446D-8EC4-26E9A3A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C350-A01A-4DF4-88E4-F45B389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9A54-15B8-451A-95EC-19995067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4FEE-476A-48EC-A4E4-0963BF24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138-6333-4ED0-9DB5-B4999080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81CC-11AE-48A4-BCC9-BB1488A9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F196-AEBD-43EA-856F-3EEBBAA2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9B50-EB07-4928-BD66-F96D599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2CA2-12B8-4D0C-B6CF-7DB15FB8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B6C6-4336-4182-BD61-EBE55378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376-6E80-4797-BC4B-A82011EA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4D75-B1B2-4CD4-A60E-C15B4379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5001-4C30-4AC0-B8BB-4602C6D1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729E-4B23-4CB0-8A42-84FA3139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7498-0C7C-48A1-ABB8-5EDB1E78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436F-B836-4BD3-9A61-BD74AF3E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92BB-7448-453F-94A8-2167FBA1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E645-E438-4ACF-BBB0-1D236A03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301B-8CEA-4004-899D-9B817111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495C-5408-49C8-8130-543C5DA1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2140-DC28-43B7-9628-C05D1A78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593-5F34-46C6-B072-E0D308AA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DA11-B506-4BDF-9277-08DC4FB4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6AFF-365B-4551-98C3-D745662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E398-3F85-41ED-A8E5-7B159636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6096-0A5E-4719-8F93-A6A3747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4A9B-DF49-4621-B303-DB859FC1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4E84-698C-4E73-AFB8-5A812D36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9254-6375-41A2-87E6-6F0B195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199E-625D-4924-829D-36EFB596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0E23-AFFC-4C4D-8695-20EA1EC3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740-93F4-4E19-B606-FD17E9FF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427-8881-4911-AF6F-74C1636D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BFC-6660-4BA3-BD58-F17B890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DB5-10E6-4C9E-A911-3D42A2E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B59-079E-48F2-82A4-8954411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C2CA-55F4-43FC-99F8-40F2120FDBE6}" type="slidenum">
              <a:rPr b="0" lang="en-US" sz="1200" spc="-1" strike="noStrike">
                <a:solidFill>
                  <a:srgbClr val="045c75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F8F-26FC-41D8-895C-B10FB9AA6B68}" type="slidenum">
              <a:rPr b="0" lang="en-US" sz="1200" spc="-1" strike="noStrike">
                <a:solidFill>
                  <a:srgbClr val="d1eaee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2BCD-5AA0-4CE6-8A74-0201989E7FAC}" type="slidenum">
              <a:rPr b="0" lang="en-US" sz="1200" spc="-1" strike="noStrike">
                <a:solidFill>
                  <a:srgbClr val="d1eaee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879B-C9E8-47B4-8B74-FC836F5295EE}" type="slidenum">
              <a:rPr b="0" lang="en-US" sz="1200" spc="-1" strike="noStrike">
                <a:solidFill>
                  <a:srgbClr val="045c75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image" Target="../media/image109.png"/><Relationship Id="rId5" Type="http://schemas.openxmlformats.org/officeDocument/2006/relationships/image" Target="../media/image107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image" Target="../media/image111.pn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5.png"/><Relationship Id="rId5" Type="http://schemas.openxmlformats.org/officeDocument/2006/relationships/image" Target="../media/image115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7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1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5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8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9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0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3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9.png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1.png"/><Relationship Id="rId3" Type="http://schemas.openxmlformats.org/officeDocument/2006/relationships/image" Target="../media/image142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3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4.png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5.png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6.png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7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88581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езентация на тему: </a:t>
            </a:r>
            <a:r>
              <a:rPr b="1" i="1" lang="en-US" sz="27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Метод эквивалентного генератора. Преобразование  источников. Принцип взаимности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0" y="2571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ория электрических цепей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0" y="3643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327600"/>
            <a:ext cx="84913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.58. Методами эквивалентного генератора напряжения и эквива­лентного генератора тока найти ток в ветв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ес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= 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4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м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1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м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16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м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2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рис. 1.60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а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8" name=""/>
          <p:cNvSpPr/>
          <p:nvPr/>
        </p:nvSpPr>
        <p:spPr>
          <a:xfrm>
            <a:off x="507960" y="1243440"/>
            <a:ext cx="86360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ешение.  Расчет методом ЭГН. Отключим ветвь с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рис. 1.60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найдем параметры  ЭГН  с э. д. с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Е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т. е. напряже­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U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ab x 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холостого хода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— сопротивление схемы рис. 1.60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между точками а и &amp; в режиме холостого хода при закороченных э. д. с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Е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Е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2128680" cy="329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982960" y="1125360"/>
            <a:ext cx="2570040" cy="439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52072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25351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276696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25" name="Рисунок 2" descr="Описание: C:\Users\Moro\AppData\Local\Temp\FineReader11\media\image4.png"/>
          <p:cNvPicPr/>
          <p:nvPr/>
        </p:nvPicPr>
        <p:blipFill>
          <a:blip r:embed="rId2"/>
          <a:stretch/>
        </p:blipFill>
        <p:spPr>
          <a:xfrm>
            <a:off x="1214280" y="4786200"/>
            <a:ext cx="6251760" cy="1071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708560" y="3716640"/>
            <a:ext cx="392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мый ток согласно формуле (1.24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764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хема эквивалентного ге­нератора напряжения приведена на рис. 1.60 </a:t>
            </a:r>
            <a:r>
              <a:rPr b="1" i="1" lang="en-US" sz="1800" spc="-1" strike="noStrike">
                <a:solidFill>
                  <a:srgbClr val="000000"/>
                </a:solidFill>
                <a:latin typeface="Palatino Linotype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Э. д. с. эквивалентного генератора и его сопротивление равны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7705800" cy="680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619280" y="2708280"/>
            <a:ext cx="525636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Описание: C:\Users\Moro\AppData\Local\Temp\FineReader11\media\image3.png"/>
          <p:cNvPicPr/>
          <p:nvPr/>
        </p:nvPicPr>
        <p:blipFill>
          <a:blip r:embed="rId2"/>
          <a:stretch/>
        </p:blipFill>
        <p:spPr>
          <a:xfrm>
            <a:off x="1357200" y="2000160"/>
            <a:ext cx="6715080" cy="17845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Описание: C:\Users\Moro\AppData\Local\Temp\FineReader11\media\image2.png"/>
          <p:cNvPicPr/>
          <p:nvPr/>
        </p:nvPicPr>
        <p:blipFill>
          <a:blip r:embed="rId3"/>
          <a:stretch/>
        </p:blipFill>
        <p:spPr>
          <a:xfrm>
            <a:off x="0" y="5214960"/>
            <a:ext cx="8686800" cy="714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29160" y="3906360"/>
            <a:ext cx="8759880" cy="69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то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числя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 первому закону Кирхгофа находим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3" name=""/>
          <p:cNvSpPr/>
          <p:nvPr/>
        </p:nvSpPr>
        <p:spPr>
          <a:xfrm>
            <a:off x="-4500720" y="2149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115560"/>
            <a:ext cx="813600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методом ЭГТ ветв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рачиваем (рис. 1.60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)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.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ходящий по закороченной ветв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током эквивалентного генератора тока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йдем его. Это можно сделать, рассчитав двухузловую схему рис. 1.60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ом узловых потенциалов. Приняв потенциал точе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м нулю (&amp;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amp;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, найдем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Описание: C:\Users\Moro\AppData\Local\Temp\FineReader11\media\image1.png"/>
          <p:cNvPicPr/>
          <p:nvPr/>
        </p:nvPicPr>
        <p:blipFill>
          <a:blip r:embed="rId2"/>
          <a:stretch/>
        </p:blipFill>
        <p:spPr>
          <a:xfrm>
            <a:off x="1285920" y="1357200"/>
            <a:ext cx="6643800" cy="1303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57120" y="286092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Из схемы эквивалентного генератора тока (рис. 1.60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е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по фор­муле (1.26) находим искомый ток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38" name="Picture 6" descr="image6"/>
          <p:cNvPicPr/>
          <p:nvPr/>
        </p:nvPicPr>
        <p:blipFill>
          <a:blip r:embed="rId3"/>
          <a:stretch/>
        </p:blipFill>
        <p:spPr>
          <a:xfrm>
            <a:off x="500040" y="4357800"/>
            <a:ext cx="7943760" cy="1000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4114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опротивление эквивалентного генератора тока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rr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равно сопро­тивлению эквивалентного генератора напряжения; однако его можно найти по (1.25)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Moro\AppData\Local\Temp\FineReader11\media\image2.png"/>
          <p:cNvPicPr/>
          <p:nvPr/>
        </p:nvPicPr>
        <p:blipFill>
          <a:blip r:embed="rId2"/>
          <a:stretch/>
        </p:blipFill>
        <p:spPr>
          <a:xfrm>
            <a:off x="642960" y="3143160"/>
            <a:ext cx="7429320" cy="9064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285840" y="4152600"/>
            <a:ext cx="8858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ернутой схеме генератора в режиме холостого хода (рис. 1.61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значим токи в ветвях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619280" y="4818960"/>
            <a:ext cx="450864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I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0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.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Palatino Linotype"/>
              </a:rPr>
              <a:t>I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Palatino Linotype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 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х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I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3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.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Sylfae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277200"/>
            <a:ext cx="8208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и тот же результат, что и по методу ЭГН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9. Методом ЭГН найти то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 1.61, а), проходящий через сопротивл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0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 ом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0 ом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0ом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 ом. Тем же методом определить ток в сопротив­лен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1436400"/>
            <a:ext cx="8136000" cy="16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значим на схеме рис. 1.61, а произвольное по­ложительное направление искомого то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сть схемы (внешню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сследуемой ветв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ассмотри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 некоторого генератора напряжен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елку э. д. с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льно направим к точке с (рис. 1.61,6). Таким образом, э. д. с. генератора определит­ся напряжением холостого хода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310356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95440" y="359280"/>
            <a:ext cx="60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Метод эквивалентного генератора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е источников. Принцип взаимности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233360"/>
            <a:ext cx="8142480" cy="12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7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9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ом эквивалентного генератора напряж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ток в ветви с сопротивлени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8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1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ом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ом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ом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00" name="Рисунок 1" descr="Описание: C:\Users\Moro\AppData\Local\Temp\FineReader11\media\image1.png"/>
          <p:cNvPicPr/>
          <p:nvPr/>
        </p:nvPicPr>
        <p:blipFill>
          <a:blip r:embed="rId2"/>
          <a:srcRect l="0" t="2423" r="65744" b="0"/>
          <a:stretch/>
        </p:blipFill>
        <p:spPr>
          <a:xfrm>
            <a:off x="1835280" y="2781360"/>
            <a:ext cx="3744720" cy="301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3633840" cy="495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380052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3117960" cy="4732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340000" y="836640"/>
            <a:ext cx="4132080" cy="50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4903920" cy="427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343872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32292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359892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439920" y="4572360"/>
            <a:ext cx="7009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э. д. с. эквивалентного генератора напряжения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55" name="Picture 4" descr="image4"/>
          <p:cNvPicPr/>
          <p:nvPr/>
        </p:nvPicPr>
        <p:blipFill>
          <a:blip r:embed="rId2"/>
          <a:stretch/>
        </p:blipFill>
        <p:spPr>
          <a:xfrm>
            <a:off x="357120" y="5214960"/>
            <a:ext cx="8134560" cy="1143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394200" y="475200"/>
            <a:ext cx="1878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кону Ома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340000" y="1052640"/>
            <a:ext cx="4753080" cy="744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195640" y="1916280"/>
            <a:ext cx="4824360" cy="774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7488000" cy="425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684360" y="3645000"/>
            <a:ext cx="7559640" cy="53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image1"/>
          <p:cNvPicPr/>
          <p:nvPr/>
        </p:nvPicPr>
        <p:blipFill>
          <a:blip r:embed="rId2"/>
          <a:stretch/>
        </p:blipFill>
        <p:spPr>
          <a:xfrm>
            <a:off x="357120" y="2071800"/>
            <a:ext cx="7786800" cy="893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0" y="3483000"/>
            <a:ext cx="8643960" cy="17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утем вычисления отношения э. д. с. эквивалентного генера­тора к току короткого замыкания. Для этого надо в схеме рис. 1.61, в замкнуть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ротко, вычислить то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текающий через короткозамкнутый участок (рис. 1.61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й­ти сопротивление короткого замыкания по формуле (1.25). Источ­ник напряжени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роткозамкнутой схеме рис. 1.61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гру­жаем на эквивалентное сопротивлени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63" name="Picture 3" descr="image2"/>
          <p:cNvPicPr/>
          <p:nvPr/>
        </p:nvPicPr>
        <p:blipFill>
          <a:blip r:embed="rId3"/>
          <a:stretch/>
        </p:blipFill>
        <p:spPr>
          <a:xfrm>
            <a:off x="571680" y="5715000"/>
            <a:ext cx="7572240" cy="808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0920" y="333360"/>
            <a:ext cx="87138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ем сопротивление ЭГН двумя способами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Путем непосредственного расчета по схеме. Для этого в схе­ме рис. 1.61, в источник напряжения заменим короткозамкнутым участком. После этого схему рис. 1.61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рисуем в виде рис. 1.61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тивление генератора гг равно сопротивлению цепи между точкам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u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43280" y="907920"/>
            <a:ext cx="3146400" cy="4594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image3"/>
          <p:cNvPicPr/>
          <p:nvPr/>
        </p:nvPicPr>
        <p:blipFill>
          <a:blip r:embed="rId2"/>
          <a:stretch/>
        </p:blipFill>
        <p:spPr>
          <a:xfrm>
            <a:off x="2071800" y="1214280"/>
            <a:ext cx="4857480" cy="936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612000" y="2572200"/>
            <a:ext cx="175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и в ветвях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654840" y="837360"/>
            <a:ext cx="215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ах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6408720" cy="803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971640" y="4797360"/>
            <a:ext cx="6337080" cy="89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image5"/>
          <p:cNvPicPr/>
          <p:nvPr/>
        </p:nvPicPr>
        <p:blipFill>
          <a:blip r:embed="rId2"/>
          <a:stretch/>
        </p:blipFill>
        <p:spPr>
          <a:xfrm>
            <a:off x="1357200" y="1643040"/>
            <a:ext cx="5572080" cy="905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"/>
          <p:cNvSpPr/>
          <p:nvPr/>
        </p:nvSpPr>
        <p:spPr>
          <a:xfrm>
            <a:off x="166320" y="2977560"/>
            <a:ext cx="8007840" cy="69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я сопротивления генератора, полученные этими способа­ми, одинаковы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к схеме рис. 1.61, б, находим искомый ток /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закону Ома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72" name="Picture 3" descr="image6"/>
          <p:cNvPicPr/>
          <p:nvPr/>
        </p:nvPicPr>
        <p:blipFill>
          <a:blip r:embed="rId3"/>
          <a:stretch/>
        </p:blipFill>
        <p:spPr>
          <a:xfrm>
            <a:off x="1214280" y="4143240"/>
            <a:ext cx="6643800" cy="11304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"/>
          <p:cNvSpPr/>
          <p:nvPr/>
        </p:nvSpPr>
        <p:spPr>
          <a:xfrm>
            <a:off x="655560" y="981720"/>
            <a:ext cx="317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генератора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image7"/>
          <p:cNvPicPr/>
          <p:nvPr/>
        </p:nvPicPr>
        <p:blipFill>
          <a:blip r:embed="rId2"/>
          <a:stretch/>
        </p:blipFill>
        <p:spPr>
          <a:xfrm>
            <a:off x="2214720" y="2143080"/>
            <a:ext cx="3365280" cy="10540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3"/>
          <p:cNvSpPr/>
          <p:nvPr/>
        </p:nvSpPr>
        <p:spPr>
          <a:xfrm>
            <a:off x="468360" y="3284640"/>
            <a:ext cx="792936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3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Для определения этого напряжения рассчитываем вначале ток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' в развернутой схеме генератора в режиме холостого хода (рис. 1.61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ж)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3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404640"/>
            <a:ext cx="86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86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ток в сопротивлен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чет от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точ­ке с и равен 0,4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86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чет тока в сопротивлен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методом эквивалентного генера­тора напряжения проводится аналогично. Заменяем часть схемы, подключенную к точкам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ви с сопротивлени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, эквива­лентным генераторо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'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' (рис. 1.61, с). Э. д. с. генератора совпа­дает с напряжением в режиме холостого хода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4465800" cy="852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843280" y="5589720"/>
            <a:ext cx="377964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426960" y="450720"/>
            <a:ext cx="8454960" cy="42004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5" descr="Описание: C:\Users\Moro\AppData\Local\Temp\FineReader11\media\image2.png"/>
          <p:cNvPicPr/>
          <p:nvPr/>
        </p:nvPicPr>
        <p:blipFill>
          <a:blip r:embed="rId3"/>
          <a:stretch/>
        </p:blipFill>
        <p:spPr>
          <a:xfrm>
            <a:off x="571680" y="928800"/>
            <a:ext cx="6945120" cy="9284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6" descr="Описание: C:\Users\Moro\AppData\Local\Temp\FineReader11\media\image3.png"/>
          <p:cNvPicPr/>
          <p:nvPr/>
        </p:nvPicPr>
        <p:blipFill>
          <a:blip r:embed="rId4"/>
          <a:stretch/>
        </p:blipFill>
        <p:spPr>
          <a:xfrm>
            <a:off x="785880" y="4357800"/>
            <a:ext cx="614664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7" descr="Описание: C:\Users\Moro\AppData\Local\Temp\FineReader11\media\image4.png"/>
          <p:cNvPicPr/>
          <p:nvPr/>
        </p:nvPicPr>
        <p:blipFill>
          <a:blip r:embed="rId2"/>
          <a:stretch/>
        </p:blipFill>
        <p:spPr>
          <a:xfrm>
            <a:off x="1500120" y="1214280"/>
            <a:ext cx="5357880" cy="152568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3"/>
          <p:cNvSpPr/>
          <p:nvPr/>
        </p:nvSpPr>
        <p:spPr>
          <a:xfrm>
            <a:off x="500040" y="2786040"/>
            <a:ext cx="82152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По данным задачи 1.58 для схемы рис. 1.60 методом ЭГН иди ЭГТ найти ток в ветви с сопротивлением 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Считая зажимы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u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входными клеммами схем (рис. 1.62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, определить параметр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соответствующих эквивалентных ге­нераторов (рис. 1.62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е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5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5" name=""/>
          <p:cNvSpPr/>
          <p:nvPr/>
        </p:nvSpPr>
        <p:spPr>
          <a:xfrm>
            <a:off x="934920" y="379800"/>
            <a:ext cx="8209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Наконец находим искомый то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по схеме эквивалентного гене­ратора (см. рис. 1.61, е)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33920" y="2887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3733920" y="2887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71520" y="4140360"/>
            <a:ext cx="87390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43200" y="4837680"/>
            <a:ext cx="137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 1.62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4895640" cy="3695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82912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4257720" cy="349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32040" cy="38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453708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225900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3254400" cy="3665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" descr="Описание: C:\Users\Moro\AppData\Local\Temp\FineReader11\media\image1.png"/>
          <p:cNvPicPr/>
          <p:nvPr/>
        </p:nvPicPr>
        <p:blipFill>
          <a:blip r:embed="rId2"/>
          <a:stretch/>
        </p:blipFill>
        <p:spPr>
          <a:xfrm>
            <a:off x="714240" y="1857240"/>
            <a:ext cx="2500560" cy="161316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3"/>
          <p:cNvSpPr/>
          <p:nvPr/>
        </p:nvSpPr>
        <p:spPr>
          <a:xfrm>
            <a:off x="571680" y="4357800"/>
            <a:ext cx="77864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  <a:ea typeface="Courier New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  <a:ea typeface="Courier Ne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20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  <a:ea typeface="Courier New"/>
              </a:rPr>
              <a:t>в; 1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  <a:ea typeface="Courier Ne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  <a:ea typeface="Courier New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  <a:ea typeface="Courier Ne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30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  <a:ea typeface="Courier New"/>
              </a:rPr>
              <a:t>в\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3 а;                     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)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20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12 а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U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30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= 14 а;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2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1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= З а;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30 в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63. Определить то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ветви с сопро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влени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2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ис. 1.64,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а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Э. д. с. генераторов напряжения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20 в, 100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внутренние сопротивле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6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ом,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Sylfae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5410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62. Для экспериментального исследования двухполюсника со­брана схема рис. 1.63. Требуется найти э. д. с. и сопротивление генераторов, эквивалентных исследовавшимся двухполюсникам, по данным двух опытов (для каждого двухпо­люсника)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686760" y="6072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Рис. 1.6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303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620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Решение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Задачу решаем двумя способами: 1) методом ЭГТ и 2) методом преобразования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3816360" cy="317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140360" cy="354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4572000" cy="408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64328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569736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4284720" cy="368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2"/>
          <p:cNvSpPr/>
          <p:nvPr/>
        </p:nvSpPr>
        <p:spPr>
          <a:xfrm>
            <a:off x="428760" y="178596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На развернутой схеме генератора (рис. 1,64,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  <a:ea typeface="Sylfaen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09" name="Рисунок 3" descr="Описание: C:\Users\Moro\AppData\Local\Temp\FineReader11\media\image3.png"/>
          <p:cNvPicPr/>
          <p:nvPr/>
        </p:nvPicPr>
        <p:blipFill>
          <a:blip r:embed="rId2"/>
          <a:stretch/>
        </p:blipFill>
        <p:spPr>
          <a:xfrm>
            <a:off x="2071800" y="2714760"/>
            <a:ext cx="4500360" cy="10332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4"/>
          <p:cNvSpPr/>
          <p:nvPr/>
        </p:nvSpPr>
        <p:spPr>
          <a:xfrm>
            <a:off x="571680" y="3786120"/>
            <a:ext cx="8001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а внутреннее сопротивление генератора тока равно сопротивлению пассивной цепи между зажимами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  <a:ea typeface="Sylfaen"/>
              </a:rPr>
              <a:t>т к 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при разомкнутой ветви г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(рис. 1.64,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  <a:ea typeface="Sylfaen"/>
              </a:rPr>
              <a:t>д);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11" name="Рисунок 5" descr="Описание: C:\Users\Moro\AppData\Local\Temp\FineReader11\media\image1.png"/>
          <p:cNvPicPr/>
          <p:nvPr/>
        </p:nvPicPr>
        <p:blipFill>
          <a:blip r:embed="rId3"/>
          <a:stretch/>
        </p:blipFill>
        <p:spPr>
          <a:xfrm>
            <a:off x="1857240" y="4714920"/>
            <a:ext cx="5643720" cy="1679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31640" y="404640"/>
            <a:ext cx="871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1. Часть схемы, подключенную к зажимам тип ветви с со­противлением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(на рис. 1.64, 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обведена штриховой линией), мож­но рассматривать в виде эквивалентного генератора тока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rr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(на рис. 1.64, 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обведен штриховой линией). Ток генератора      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опреде­ляется по опыту короткого замыкания (рис. 1.64, в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4" descr="Описание: C:\Users\Moro\AppData\Local\Temp\FineReader11\media\image5.png"/>
          <p:cNvPicPr/>
          <p:nvPr/>
        </p:nvPicPr>
        <p:blipFill>
          <a:blip r:embed="rId2"/>
          <a:stretch/>
        </p:blipFill>
        <p:spPr>
          <a:xfrm>
            <a:off x="571680" y="1571760"/>
            <a:ext cx="8129520" cy="1143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>
            <a:off x="166680" y="825480"/>
            <a:ext cx="8605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09600" y="3789360"/>
            <a:ext cx="8472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357120" y="644040"/>
            <a:ext cx="79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По схеме эквивалентного генератора тока, представленной на рис. 1.64, б, находим искомый ток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7" name="Прямоугольник 13"/>
          <p:cNvSpPr/>
          <p:nvPr/>
        </p:nvSpPr>
        <p:spPr>
          <a:xfrm>
            <a:off x="357120" y="30002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 решении методом преобразования заменяем генераторы напряжения схемы рис. 1.64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вивалентными генераторами тока (рис. 1.64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ки генераторов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18" name="Рисунок 1" descr="Описание: C:\Users\Moro\AppData\Local\Temp\FineReader11\media\image1.png"/>
          <p:cNvPicPr/>
          <p:nvPr/>
        </p:nvPicPr>
        <p:blipFill>
          <a:blip r:embed="rId3"/>
          <a:stretch/>
        </p:blipFill>
        <p:spPr>
          <a:xfrm>
            <a:off x="1116000" y="4724280"/>
            <a:ext cx="6840720" cy="77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28972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500040" y="928800"/>
            <a:ext cx="79297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ем полученную схему, заменив параллельные сопротив­ле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эквивалентным сопротивлением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20" name="Рисунок 2" descr="Описание: C:\Users\Moro\AppData\Local\Temp\FineReader11\media\image2.png"/>
          <p:cNvPicPr/>
          <p:nvPr/>
        </p:nvPicPr>
        <p:blipFill>
          <a:blip r:embed="rId2"/>
          <a:stretch/>
        </p:blipFill>
        <p:spPr>
          <a:xfrm>
            <a:off x="1643040" y="1785960"/>
            <a:ext cx="6000840" cy="102240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3"/>
          <p:cNvSpPr/>
          <p:nvPr/>
        </p:nvSpPr>
        <p:spPr>
          <a:xfrm>
            <a:off x="571680" y="3000240"/>
            <a:ext cx="78580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и параллельные источники то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-одним эквивалентным ис­точником то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получим схему рис. 1.64,6, причем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22" name="Рисунок 4" descr="Описание: C:\Users\Moro\AppData\Local\Temp\FineReader11\media\image5.png"/>
          <p:cNvPicPr/>
          <p:nvPr/>
        </p:nvPicPr>
        <p:blipFill>
          <a:blip r:embed="rId3"/>
          <a:stretch/>
        </p:blipFill>
        <p:spPr>
          <a:xfrm>
            <a:off x="714240" y="4000680"/>
            <a:ext cx="7318440" cy="64260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5"/>
          <p:cNvSpPr/>
          <p:nvPr/>
        </p:nvSpPr>
        <p:spPr>
          <a:xfrm>
            <a:off x="642960" y="478620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J последней схемы разветвляется по сопротивлениям rr и r8    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24" name="Рисунок 5" descr="Описание: C:\Users\Moro\AppData\Local\Temp\FineReader11\media\image4.png"/>
          <p:cNvPicPr/>
          <p:nvPr/>
        </p:nvPicPr>
        <p:blipFill>
          <a:blip r:embed="rId4"/>
          <a:stretch/>
        </p:blipFill>
        <p:spPr>
          <a:xfrm>
            <a:off x="642960" y="5500800"/>
            <a:ext cx="7429320" cy="979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8"/>
          <p:cNvSpPr/>
          <p:nvPr/>
        </p:nvSpPr>
        <p:spPr>
          <a:xfrm>
            <a:off x="3934440" y="55008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65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58000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565164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4356000" cy="330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51672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579600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14836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428760" y="928800"/>
            <a:ext cx="82152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4. Два генератора тока соединены в цепь рис. 1.65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к первого генератор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внутренняя проводимос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5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ого генератора = 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про­тивле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ь ток, проходящий через сопротивление 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428760" y="22147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1. Преобразуем генераторы тока в эквивалентные генераторы напряжения (рис. 1.65,б). Э. д. с. и внутренние сопро­тивления генераторов напряжения находим по формулам  (1.4);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5256000" cy="1130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835280" y="5013360"/>
            <a:ext cx="518472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5"/>
          <p:cNvSpPr/>
          <p:nvPr/>
        </p:nvSpPr>
        <p:spPr>
          <a:xfrm>
            <a:off x="395280" y="270828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40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любым способом находим искомый ток. Выберем метод узловых потенциалов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40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37" name="Рисунок 1" descr="Описание: C:\Users\Moro\AppData\Local\Temp\FineReader11\media\image1.png"/>
          <p:cNvPicPr/>
          <p:nvPr/>
        </p:nvPicPr>
        <p:blipFill>
          <a:blip r:embed="rId2"/>
          <a:stretch/>
        </p:blipFill>
        <p:spPr>
          <a:xfrm>
            <a:off x="2771640" y="3213000"/>
            <a:ext cx="1928880" cy="655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1835280" y="333360"/>
            <a:ext cx="4572000" cy="1009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835280" y="1484280"/>
            <a:ext cx="4249440" cy="100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00000" y="4005360"/>
            <a:ext cx="6913800" cy="1173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1835280" y="5300640"/>
            <a:ext cx="504180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357120" y="857160"/>
            <a:ext cx="821556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шим задачу методом эквивалентного генератора тока. Для этого заменим всю цепь, за исключением ветви с 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эквивалентным генератором тока (рис. 1.65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определения его параметров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ачала исключим ветвь с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ротим (рис. 1.65, г). Найдем ток короткого замыкания, равны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этого предварительно определим ток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 1.65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43" name="Рисунок 3" descr="Описание: C:\Users\Moro\AppData\Local\Temp\FineReader11\media\image4.png"/>
          <p:cNvPicPr/>
          <p:nvPr/>
        </p:nvPicPr>
        <p:blipFill>
          <a:blip r:embed="rId2"/>
          <a:stretch/>
        </p:blipFill>
        <p:spPr>
          <a:xfrm>
            <a:off x="857160" y="2500200"/>
            <a:ext cx="7643880" cy="160344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"/>
          <p:cNvSpPr/>
          <p:nvPr/>
        </p:nvSpPr>
        <p:spPr>
          <a:xfrm>
            <a:off x="642960" y="43578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ток эквивалентного генератора ток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45" name="Рисунок 4" descr="Описание: C:\Users\Moro\AppData\Local\Temp\FineReader11\media\image3.png"/>
          <p:cNvPicPr/>
          <p:nvPr/>
        </p:nvPicPr>
        <p:blipFill>
          <a:blip r:embed="rId3"/>
          <a:stretch/>
        </p:blipFill>
        <p:spPr>
          <a:xfrm>
            <a:off x="2357280" y="5072040"/>
            <a:ext cx="4783320" cy="500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227484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642960" y="857160"/>
            <a:ext cx="77868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пределим внутреннюю проводимость эквивалентного, генератора тока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.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Для этого исключим генераторы то­ка и оставим лишь их внутренние проводимости (рис. 1.65, е)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47" name="Рисунок 6" descr="Описание: C:\Users\Moro\AppData\Local\Temp\FineReader11\media\image6.png"/>
          <p:cNvPicPr/>
          <p:nvPr/>
        </p:nvPicPr>
        <p:blipFill>
          <a:blip r:embed="rId2"/>
          <a:stretch/>
        </p:blipFill>
        <p:spPr>
          <a:xfrm>
            <a:off x="1285920" y="2071800"/>
            <a:ext cx="6929280" cy="94932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3"/>
          <p:cNvSpPr/>
          <p:nvPr/>
        </p:nvSpPr>
        <p:spPr>
          <a:xfrm>
            <a:off x="717840" y="335772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комой ветви (см. рис. 1.65, в) ток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49" name="Рисунок 5" descr="Описание: C:\Users\Moro\AppData\Local\Temp\FineReader11\media\image5.png"/>
          <p:cNvPicPr/>
          <p:nvPr/>
        </p:nvPicPr>
        <p:blipFill>
          <a:blip r:embed="rId3"/>
          <a:stretch/>
        </p:blipFill>
        <p:spPr>
          <a:xfrm>
            <a:off x="2143080" y="4071960"/>
            <a:ext cx="5857920" cy="138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9"/>
          <p:cNvSpPr/>
          <p:nvPr/>
        </p:nvSpPr>
        <p:spPr>
          <a:xfrm>
            <a:off x="4633920" y="289080"/>
            <a:ext cx="1807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314280" y="1521000"/>
            <a:ext cx="8659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428760" y="428760"/>
            <a:ext cx="828648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5. Вычислить ток в ветви с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чи 1.40 (см. рис. 1.45), пользуясь преобразованием схем с источниками тока в эквивалент­ные схемы с источниками напряжения, и наоборот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1. Для ясности перерисуем схему рис. 1.45 в виде рис. 1.66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вивалентность исходной и новой схем очевидна: к соответствующим узлам обеих схем подходят одинаковые токи. В частности, результирующий ток, подводимый к узлу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ну­лю. Преобразуем генераторы то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ней схемы в генераторы с э. д. с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 1.66, б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3" name="Прямоугольник 17"/>
          <p:cNvSpPr/>
          <p:nvPr/>
        </p:nvSpPr>
        <p:spPr>
          <a:xfrm>
            <a:off x="285840" y="42861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Складывая последние элементы ветвей, приводим рис. 1.66, б к виду рис. 1.66, в, для которого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6192720" cy="538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1116000" y="3573360"/>
            <a:ext cx="5905440" cy="627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1979640" y="4941720"/>
            <a:ext cx="4392720" cy="385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268360" y="5373720"/>
            <a:ext cx="3889440" cy="7048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2411280" y="6021360"/>
            <a:ext cx="345600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411280" y="836640"/>
            <a:ext cx="399744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2646360" cy="3934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556000" y="836640"/>
            <a:ext cx="316548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3348360" cy="479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262260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140000" cy="346392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2"/>
          <p:cNvSpPr/>
          <p:nvPr/>
        </p:nvSpPr>
        <p:spPr>
          <a:xfrm>
            <a:off x="900000" y="551664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. 1.66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Преобразуем схему рис. 1.66, в в схему с источниками тока (рис. 1.66, г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18608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419640" cy="38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Users\Moro\AppData\Local\Temp\FineReader11\media\image1.png"/>
          <p:cNvPicPr/>
          <p:nvPr/>
        </p:nvPicPr>
        <p:blipFill>
          <a:blip r:embed="rId2"/>
          <a:stretch/>
        </p:blipFill>
        <p:spPr>
          <a:xfrm>
            <a:off x="684360" y="4292640"/>
            <a:ext cx="8037360" cy="857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5640" y="495720"/>
            <a:ext cx="77738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значим положительное направление искомого то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сходной схеме (см. рис. 1.59,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им часть схемы, подключенную к исследуемой первой ветви (обведенную штриховой линией), в качестве эквивалентного генератора напря­жения с э. д. с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противлени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рисуем эквивалентную электрическую схему с эквивалентным генератором напряжения (рис. 1.59, б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2388960"/>
            <a:ext cx="68374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На схеме произвольно выбрано положительное направление э. д. с.' эквивалентного генератор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Е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к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Это позволяет записать для режима холостого хода эквивалентного генератора с отключенной первой ветвью (рис. 1.59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2"/>
          <p:cNvSpPr/>
          <p:nvPr/>
        </p:nvSpPr>
        <p:spPr>
          <a:xfrm>
            <a:off x="539640" y="2565360"/>
            <a:ext cx="77868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Сложив параллельные элементы, преобразуем схему рис. 1.66, г к виду схемы рис. 1.66, д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ветвь г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ответвляется часть то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равная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69" name="Рисунок 5" descr="Описание: C:\Users\Moro\AppData\Local\Temp\FineReader11\media\image3.png"/>
          <p:cNvPicPr/>
          <p:nvPr/>
        </p:nvPicPr>
        <p:blipFill>
          <a:blip r:embed="rId2"/>
          <a:srcRect l="0" t="44654" r="616" b="0"/>
          <a:stretch/>
        </p:blipFill>
        <p:spPr>
          <a:xfrm>
            <a:off x="1042920" y="5157720"/>
            <a:ext cx="7170840" cy="990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6372000" cy="914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1835280" y="1484280"/>
            <a:ext cx="4500360" cy="75240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5" descr="Описание: C:\Users\Moro\AppData\Local\Temp\FineReader11\media\image3.png"/>
          <p:cNvPicPr/>
          <p:nvPr/>
        </p:nvPicPr>
        <p:blipFill>
          <a:blip r:embed="rId5"/>
          <a:srcRect l="0" t="0" r="205" b="59835"/>
          <a:stretch/>
        </p:blipFill>
        <p:spPr>
          <a:xfrm>
            <a:off x="1116000" y="4292640"/>
            <a:ext cx="720108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6" descr="Описание: C:\Users\Moro\AppData\Local\Temp\FineReader11\media\image2.png"/>
          <p:cNvPicPr/>
          <p:nvPr/>
        </p:nvPicPr>
        <p:blipFill>
          <a:blip r:embed="rId2"/>
          <a:stretch/>
        </p:blipFill>
        <p:spPr>
          <a:xfrm>
            <a:off x="1500120" y="1285920"/>
            <a:ext cx="6500880" cy="1168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6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15228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4633920" y="689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4633920" y="689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509760" y="71424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твь г5 ответвляется часть тока Iэ, равная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9" name="Прямоугольник 16"/>
          <p:cNvSpPr/>
          <p:nvPr/>
        </p:nvSpPr>
        <p:spPr>
          <a:xfrm>
            <a:off x="857160" y="2500200"/>
            <a:ext cx="7500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2.Метод ЭГТ. Определим то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J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эквивалентного генератора то­ка, который равен ток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.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при замыкании накоротко сопротивле­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(рис. 1.66, е). То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.з можно вычислить различными спосо­бами, например методом контурных токов: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80" name="Рисунок 3" descr="Описание: C:\Users\Moro\AppData\Local\Temp\FineReader11\media\image4.png"/>
          <p:cNvPicPr/>
          <p:nvPr/>
        </p:nvPicPr>
        <p:blipFill>
          <a:blip r:embed="rId3"/>
          <a:srcRect l="0" t="47455" r="-359" b="0"/>
          <a:stretch/>
        </p:blipFill>
        <p:spPr>
          <a:xfrm>
            <a:off x="1042920" y="5300640"/>
            <a:ext cx="7027920" cy="9619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3" descr="Описание: C:\Users\Moro\AppData\Local\Temp\FineReader11\media\image4.png"/>
          <p:cNvPicPr/>
          <p:nvPr/>
        </p:nvPicPr>
        <p:blipFill>
          <a:blip r:embed="rId4"/>
          <a:srcRect l="0" t="0" r="1243" b="52909"/>
          <a:stretch/>
        </p:blipFill>
        <p:spPr>
          <a:xfrm>
            <a:off x="1258920" y="4149720"/>
            <a:ext cx="69134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428760" y="428760"/>
            <a:ext cx="835812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Подставляя числовые значения и решая эти уравнения, найдем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Затем рассчитаем внутреннюю проводимость генератора тока. Она равна проводимости пассивной цепи между зажим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при разомкнутой ветви с 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(рис. 1.66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ж)\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ветвь, содержащая гене­ратор тока, показана разомкнутой, так как внутреннее сопротивле­ние идеального генератора тока бесконечно велико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83" name="Рисунок 4" descr="Описание: C:\Users\Moro\AppData\Local\Temp\FineReader11\media\image3.png"/>
          <p:cNvPicPr/>
          <p:nvPr/>
        </p:nvPicPr>
        <p:blipFill>
          <a:blip r:embed="rId2"/>
          <a:srcRect l="0" t="0" r="50019" b="4019"/>
          <a:stretch/>
        </p:blipFill>
        <p:spPr>
          <a:xfrm>
            <a:off x="357120" y="1214280"/>
            <a:ext cx="4286160" cy="3430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" descr="Описание: C:\Users\Moro\AppData\Local\Temp\FineReader11\media\image2.png"/>
          <p:cNvPicPr/>
          <p:nvPr/>
        </p:nvPicPr>
        <p:blipFill>
          <a:blip r:embed="rId3"/>
          <a:srcRect l="0" t="0" r="37623" b="0"/>
          <a:stretch/>
        </p:blipFill>
        <p:spPr>
          <a:xfrm>
            <a:off x="571680" y="3429000"/>
            <a:ext cx="5079960" cy="6667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214200" y="43578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На рис. 1.66,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приведена схема эквивалентного генератора тока относительно зажимов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Из нее находим искомый ток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86" name="Рисунок 1" descr="Описание: C:\Users\Moro\AppData\Local\Temp\FineReader11\media\image1.png"/>
          <p:cNvPicPr/>
          <p:nvPr/>
        </p:nvPicPr>
        <p:blipFill>
          <a:blip r:embed="rId4"/>
          <a:stretch/>
        </p:blipFill>
        <p:spPr>
          <a:xfrm>
            <a:off x="642960" y="5357880"/>
            <a:ext cx="7750080" cy="6429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4" descr="Описание: C:\Users\Moro\AppData\Local\Temp\FineReader11\media\image3.png"/>
          <p:cNvPicPr/>
          <p:nvPr/>
        </p:nvPicPr>
        <p:blipFill>
          <a:blip r:embed="rId5"/>
          <a:srcRect l="49542" t="0" r="0" b="0"/>
          <a:stretch/>
        </p:blipFill>
        <p:spPr>
          <a:xfrm>
            <a:off x="4572000" y="1268280"/>
            <a:ext cx="4327560" cy="357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Описание: C:\Users\Moro\AppData\Local\Temp\FineReader11\media\image2.png"/>
          <p:cNvPicPr/>
          <p:nvPr/>
        </p:nvPicPr>
        <p:blipFill>
          <a:blip r:embed="rId6"/>
          <a:srcRect l="64543" t="-3648" r="0" b="0"/>
          <a:stretch/>
        </p:blipFill>
        <p:spPr>
          <a:xfrm>
            <a:off x="5867280" y="3500280"/>
            <a:ext cx="2887920" cy="69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357120" y="785880"/>
            <a:ext cx="8286840" cy="29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3. Преобразуем треугольник сопротивлений 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/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в эквивалент­ную звезду (рис. 1.66,з). Ее сопротивления [см. формулы (1.21)] равны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Полученная схема содержит всего два узла 0 и с. Приняв по­тенциал узловой точки 0 равным нулю 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(ср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Sylfae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= 0), вычислим потенциал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[см. формулу (1.14)]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90" name="Рисунок 5" descr="Описание: C:\Users\Moro\AppData\Local\Temp\FineReader11\media\image5.png"/>
          <p:cNvPicPr/>
          <p:nvPr/>
        </p:nvPicPr>
        <p:blipFill>
          <a:blip r:embed="rId2"/>
          <a:srcRect l="0" t="-1854" r="56102" b="0"/>
          <a:stretch/>
        </p:blipFill>
        <p:spPr>
          <a:xfrm>
            <a:off x="857160" y="1773360"/>
            <a:ext cx="3354480" cy="6555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6" descr="Описание: C:\Users\Moro\AppData\Local\Temp\FineReader11\media\image6.png"/>
          <p:cNvPicPr/>
          <p:nvPr/>
        </p:nvPicPr>
        <p:blipFill>
          <a:blip r:embed="rId3"/>
          <a:stretch/>
        </p:blipFill>
        <p:spPr>
          <a:xfrm>
            <a:off x="1928880" y="4000680"/>
            <a:ext cx="6000840" cy="19983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Описание: C:\Users\Moro\AppData\Local\Temp\FineReader11\media\image5.png"/>
          <p:cNvPicPr/>
          <p:nvPr/>
        </p:nvPicPr>
        <p:blipFill>
          <a:blip r:embed="rId4"/>
          <a:srcRect l="78233" t="-7532" r="0" b="0"/>
          <a:stretch/>
        </p:blipFill>
        <p:spPr>
          <a:xfrm>
            <a:off x="6948360" y="1700280"/>
            <a:ext cx="1663920" cy="69192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Описание: C:\Users\Moro\AppData\Local\Temp\FineReader11\media\image5.png"/>
          <p:cNvPicPr/>
          <p:nvPr/>
        </p:nvPicPr>
        <p:blipFill>
          <a:blip r:embed="rId5"/>
          <a:srcRect l="47124" t="-7532" r="26496" b="0"/>
          <a:stretch/>
        </p:blipFill>
        <p:spPr>
          <a:xfrm>
            <a:off x="4284720" y="1773360"/>
            <a:ext cx="2016000" cy="69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7" descr="Описание: C:\Users\Moro\AppData\Local\Temp\FineReader11\media\image7.png"/>
          <p:cNvPicPr/>
          <p:nvPr/>
        </p:nvPicPr>
        <p:blipFill>
          <a:blip r:embed="rId2"/>
          <a:srcRect l="0" t="-10081" r="55854" b="0"/>
          <a:stretch/>
        </p:blipFill>
        <p:spPr>
          <a:xfrm>
            <a:off x="1071720" y="3141720"/>
            <a:ext cx="3068640" cy="7873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9"/>
          <p:cNvSpPr/>
          <p:nvPr/>
        </p:nvSpPr>
        <p:spPr>
          <a:xfrm>
            <a:off x="227160" y="5319720"/>
            <a:ext cx="89010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Прямоугольник 15"/>
          <p:cNvSpPr/>
          <p:nvPr/>
        </p:nvSpPr>
        <p:spPr>
          <a:xfrm>
            <a:off x="571680" y="714240"/>
            <a:ext cx="814356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Обращаем внимание на то, что в знаменателе последнего выра­жения отсутствует слагаемое, учитывающее сопротивление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</a:rPr>
              <a:t>r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Sylfae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это связано с тем, что сопротивление источника тока бесконечно вели­ко и прибавление к нему конечного сопротивления </a:t>
            </a:r>
            <a:r>
              <a:rPr b="0" i="1" lang="en-US" sz="1800" spc="-1" strike="noStrike">
                <a:solidFill>
                  <a:srgbClr val="000000"/>
                </a:solidFill>
                <a:latin typeface="Sylfaen"/>
              </a:rPr>
              <a:t>r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Sylfae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не изменило бы бесконечно большое сопротивление ветви источника ток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7" name="Прямоугольник 16"/>
          <p:cNvSpPr/>
          <p:nvPr/>
        </p:nvSpPr>
        <p:spPr>
          <a:xfrm>
            <a:off x="609120" y="25002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По закону Ома найдем токи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8" name="Прямоугольник 17"/>
          <p:cNvSpPr/>
          <p:nvPr/>
        </p:nvSpPr>
        <p:spPr>
          <a:xfrm>
            <a:off x="168480" y="407196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 напряжение между точкам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entury Gothic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Ь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99" name="Picture 22" descr="I:\ТЭЦ\AppData\Local\Temp\FineReader11\media\image1.png"/>
          <p:cNvPicPr/>
          <p:nvPr/>
        </p:nvPicPr>
        <p:blipFill>
          <a:blip r:embed="rId3"/>
          <a:stretch/>
        </p:blipFill>
        <p:spPr>
          <a:xfrm>
            <a:off x="2071800" y="4857840"/>
            <a:ext cx="5429160" cy="7459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7" descr="Описание: C:\Users\Moro\AppData\Local\Temp\FineReader11\media\image7.png"/>
          <p:cNvPicPr/>
          <p:nvPr/>
        </p:nvPicPr>
        <p:blipFill>
          <a:blip r:embed="rId4"/>
          <a:srcRect l="48705" t="0" r="0" b="0"/>
          <a:stretch/>
        </p:blipFill>
        <p:spPr>
          <a:xfrm>
            <a:off x="4859280" y="3213000"/>
            <a:ext cx="3565440" cy="71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361800" y="571680"/>
            <a:ext cx="38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Наконец находим искомый ток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02" name="Рисунок 1" descr="Описание: C:\Users\Moro\AppData\Local\Temp\FineReader11\media\image2.png"/>
          <p:cNvPicPr/>
          <p:nvPr/>
        </p:nvPicPr>
        <p:blipFill>
          <a:blip r:embed="rId2"/>
          <a:stretch/>
        </p:blipFill>
        <p:spPr>
          <a:xfrm>
            <a:off x="2500200" y="1000080"/>
            <a:ext cx="3714840" cy="10224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3"/>
          <p:cNvSpPr/>
          <p:nvPr/>
        </p:nvSpPr>
        <p:spPr>
          <a:xfrm>
            <a:off x="714240" y="2071800"/>
            <a:ext cx="80010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1.66  Для цепи рис. 1.49 по данным задачи 1.46 наити ток в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, пользуясь преобразованиями генераторов тока в генераторы напря­жения, и наоборот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428760" y="3214800"/>
            <a:ext cx="828648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1.67  Цепь рис. 1.67, содержащая два генератора ток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entury Gothic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entury Gothic"/>
              </a:rPr>
              <a:t>J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entury Gothic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3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Palatino Linotype"/>
                <a:ea typeface="Times New Roman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м,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2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1,5 •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Palatino Linotype"/>
                <a:ea typeface="Times New Roman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м)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и генера­тор напряжен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45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10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м)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включена на нагрузочное сопротивл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2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м.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Определить ток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Описание: C:\Users\Moro\AppData\Local\Temp\FineReader11\media\image3.png"/>
          <p:cNvPicPr/>
          <p:nvPr/>
        </p:nvPicPr>
        <p:blipFill>
          <a:blip r:embed="rId2"/>
          <a:srcRect l="0" t="-467" r="48311" b="0"/>
          <a:stretch/>
        </p:blipFill>
        <p:spPr>
          <a:xfrm>
            <a:off x="1763640" y="1700280"/>
            <a:ext cx="5616720" cy="340524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2"/>
          <p:cNvSpPr/>
          <p:nvPr/>
        </p:nvSpPr>
        <p:spPr>
          <a:xfrm>
            <a:off x="4017960" y="55897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Рис. 1.67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2" descr="Описание: C:\Users\Moro\AppData\Local\Temp\FineReader11\media\image3.png"/>
          <p:cNvPicPr/>
          <p:nvPr/>
        </p:nvPicPr>
        <p:blipFill>
          <a:blip r:embed="rId2"/>
          <a:srcRect l="58390" t="-2890" r="0" b="0"/>
          <a:stretch/>
        </p:blipFill>
        <p:spPr>
          <a:xfrm>
            <a:off x="1979640" y="1052640"/>
            <a:ext cx="5111640" cy="3941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034520" y="56610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ис. 1.68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Описание: C:\Users\Moro\AppData\Local\Temp\FineReader11\media\image4.png"/>
          <p:cNvPicPr/>
          <p:nvPr/>
        </p:nvPicPr>
        <p:blipFill>
          <a:blip r:embed="rId2"/>
          <a:stretch/>
        </p:blipFill>
        <p:spPr>
          <a:xfrm>
            <a:off x="1214280" y="3571920"/>
            <a:ext cx="7223400" cy="15127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5"/>
          <p:cNvSpPr/>
          <p:nvPr/>
        </p:nvSpPr>
        <p:spPr>
          <a:xfrm>
            <a:off x="685800" y="990720"/>
            <a:ext cx="8451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Прямоугольник 14"/>
          <p:cNvSpPr/>
          <p:nvPr/>
        </p:nvSpPr>
        <p:spPr>
          <a:xfrm>
            <a:off x="642960" y="357120"/>
            <a:ext cx="814392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1.68  Три генератора напряжений, э. д. с. которы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48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=45 в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45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а внутренние сопротивления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1,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= 1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м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5ом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работают параллельно на общую нагрузку, сопротивление которой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4,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(рис. 1.68). Произвести замену заданных генераторов напряжений одним эквивалентным, определив его э. д. с. и внутреннее сопротивление. Чему равны токи, проте­кающие через каждый генератор и нагрузку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2" name="Прямоугольник 15"/>
          <p:cNvSpPr/>
          <p:nvPr/>
        </p:nvSpPr>
        <p:spPr>
          <a:xfrm>
            <a:off x="642960" y="24289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Значения э. д. с. и внутреннего сопротивления эк­вивалентного генератора напряжения могут быть определены по формулам (1.27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4" descr="Описание: C:\Users\Moro\AppData\Local\Temp\FineReader11\media\image5.png"/>
          <p:cNvPicPr/>
          <p:nvPr/>
        </p:nvPicPr>
        <p:blipFill>
          <a:blip r:embed="rId2"/>
          <a:srcRect l="0" t="6591" r="29969" b="0"/>
          <a:stretch/>
        </p:blipFill>
        <p:spPr>
          <a:xfrm>
            <a:off x="714240" y="1341360"/>
            <a:ext cx="5153040" cy="7844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2"/>
          <p:cNvSpPr/>
          <p:nvPr/>
        </p:nvSpPr>
        <p:spPr>
          <a:xfrm>
            <a:off x="214200" y="2714760"/>
            <a:ext cx="45720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Ток в нагрузк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Напряжение на нагрузк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15" name="Рисунок 5" descr="Описание: C:\Users\Moro\AppData\Local\Temp\FineReader11\media\image6.png"/>
          <p:cNvPicPr/>
          <p:nvPr/>
        </p:nvPicPr>
        <p:blipFill>
          <a:blip r:embed="rId3"/>
          <a:stretch/>
        </p:blipFill>
        <p:spPr>
          <a:xfrm>
            <a:off x="1357200" y="3500280"/>
            <a:ext cx="5429520" cy="936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6" descr="Описание: C:\Users\Moro\AppData\Local\Temp\FineReader11\media\image7.png"/>
          <p:cNvPicPr/>
          <p:nvPr/>
        </p:nvPicPr>
        <p:blipFill>
          <a:blip r:embed="rId4"/>
          <a:stretch/>
        </p:blipFill>
        <p:spPr>
          <a:xfrm>
            <a:off x="785880" y="5500800"/>
            <a:ext cx="6143400" cy="7696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4" descr="Описание: C:\Users\Moro\AppData\Local\Temp\FineReader11\media\image5.png"/>
          <p:cNvPicPr/>
          <p:nvPr/>
        </p:nvPicPr>
        <p:blipFill>
          <a:blip r:embed="rId5"/>
          <a:srcRect l="71148" t="8750" r="0" b="0"/>
          <a:stretch/>
        </p:blipFill>
        <p:spPr>
          <a:xfrm>
            <a:off x="6516720" y="1341360"/>
            <a:ext cx="212400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C:\Users\Moro\AppData\Local\Temp\FineReader11\media\image3.png"/>
          <p:cNvPicPr/>
          <p:nvPr/>
        </p:nvPicPr>
        <p:blipFill>
          <a:blip r:embed="rId2"/>
          <a:stretch/>
        </p:blipFill>
        <p:spPr>
          <a:xfrm>
            <a:off x="1071720" y="1714680"/>
            <a:ext cx="646416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Moro\AppData\Local\Temp\FineReader11\media\image2.png"/>
          <p:cNvPicPr/>
          <p:nvPr/>
        </p:nvPicPr>
        <p:blipFill>
          <a:blip r:embed="rId3"/>
          <a:stretch/>
        </p:blipFill>
        <p:spPr>
          <a:xfrm>
            <a:off x="642960" y="4500720"/>
            <a:ext cx="8078760" cy="571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357120" y="3359160"/>
            <a:ext cx="8786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холостого хода определяет э. д. с. генератора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612360"/>
            <a:ext cx="68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ернутая схема эквивалентного генератора в режиме холос­того хода показана, на рис. 1.59, г. Во внутренних ветвях генерато­ра ток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1071720" y="64296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Таково же напряжение на каждой из параллельных ветвей. Ток в каждой из ветвей найдем по формуле (1.29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19" name="Picture 3" descr="I:\AppData\Local\Temp\FineReader11\media\image1.png"/>
          <p:cNvPicPr/>
          <p:nvPr/>
        </p:nvPicPr>
        <p:blipFill>
          <a:blip r:embed="rId2"/>
          <a:stretch/>
        </p:blipFill>
        <p:spPr>
          <a:xfrm>
            <a:off x="1143000" y="1571760"/>
            <a:ext cx="7000920" cy="555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4"/>
          <p:cNvSpPr/>
          <p:nvPr/>
        </p:nvSpPr>
        <p:spPr>
          <a:xfrm>
            <a:off x="714240" y="2428920"/>
            <a:ext cx="792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роверка показывает, что ток в нагруз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Franklin Gothic Heavy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равен сумме токов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857160" y="3000240"/>
            <a:ext cx="76438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1.69.. Воспользовавшись принципом взаимности, найти показания амперметров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Franklin Gothic Heavy"/>
              </a:rPr>
              <a:t>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Franklin Gothic Heavy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(рис. 1.69). Даны: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30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= 4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, 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428760" y="857160"/>
            <a:ext cx="828648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. 1.69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 схеме рис. 1.70 простейшим способом вычислить токи. Даны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10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Е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8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Е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4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1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2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, 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1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о данным задачи 1.50 (см. рис. 1.53) методом эквива­лентного генератора определить-ток в сопротивлении 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Е. Условие выделения максимальной мощности в нагрузк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1.72  В схеме рис. 1.71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известны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10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г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1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,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г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40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, г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= 12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.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ри каком значении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нагрузочного сопротив­ления г„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 нем выделится максимальная мощность и чему она рав­на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23" name="Рисунок 1" descr="Описание: C:\Users\Moro\AppData\Local\Temp\FineReader11\media\image2.png"/>
          <p:cNvPicPr/>
          <p:nvPr/>
        </p:nvPicPr>
        <p:blipFill>
          <a:blip r:embed="rId2"/>
          <a:srcRect l="0" t="0" r="58478" b="-270"/>
          <a:stretch/>
        </p:blipFill>
        <p:spPr>
          <a:xfrm>
            <a:off x="2268360" y="836640"/>
            <a:ext cx="4535640" cy="306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1" descr="Описание: C:\Users\Moro\AppData\Local\Temp\FineReader11\media\image2.png"/>
          <p:cNvPicPr/>
          <p:nvPr/>
        </p:nvPicPr>
        <p:blipFill>
          <a:blip r:embed="rId2"/>
          <a:srcRect l="53620" t="-579" r="0" b="0"/>
          <a:stretch/>
        </p:blipFill>
        <p:spPr>
          <a:xfrm>
            <a:off x="1835280" y="981000"/>
            <a:ext cx="5543280" cy="3360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962880" y="5084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ис. 1.70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500040" y="4643280"/>
            <a:ext cx="814392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Рис. 1.7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пределить отношение мощности, расходуемой в г, к доставляе­мой источником. Вычислить коэффициент передачи, т. е. отношение напряжения н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к э. д. с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1. Рассчитаем ток проходящий через сопротив­ление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и расходуемую в нем мощность Р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Palatino Linotype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500400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560760" cy="4221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565164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4427640" cy="3643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8"/>
          <p:cNvSpPr/>
          <p:nvPr/>
        </p:nvSpPr>
        <p:spPr>
          <a:xfrm>
            <a:off x="1547640" y="2461320"/>
            <a:ext cx="794736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4640" rIns="1530000" tIns="450720" bIns="2113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Impact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Impact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Impac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-74772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8172360" cy="13064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1332000" y="2708280"/>
            <a:ext cx="504036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1258920" y="4508640"/>
            <a:ext cx="532908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4" descr="Описание: C:\Users\Moro\AppData\Local\Temp\FineReader11\media\image6.png"/>
          <p:cNvPicPr/>
          <p:nvPr/>
        </p:nvPicPr>
        <p:blipFill>
          <a:blip r:embed="rId2"/>
          <a:stretch/>
        </p:blipFill>
        <p:spPr>
          <a:xfrm>
            <a:off x="1476360" y="5157720"/>
            <a:ext cx="6359400" cy="95904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2"/>
          <p:cNvSpPr/>
          <p:nvPr/>
        </p:nvSpPr>
        <p:spPr>
          <a:xfrm>
            <a:off x="468360" y="386064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одставляя найденное значение г„ в (2), получим искомую вели­чину максимальной мощности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ычислим мощность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,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доставляемую источником э. д. с.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38" name="Рисунок 3" descr="Описание: C:\Users\Moro\AppData\Local\Temp\FineReader11\media\image7.png"/>
          <p:cNvPicPr/>
          <p:nvPr/>
        </p:nvPicPr>
        <p:blipFill>
          <a:blip r:embed="rId3"/>
          <a:stretch/>
        </p:blipFill>
        <p:spPr>
          <a:xfrm>
            <a:off x="684360" y="2565360"/>
            <a:ext cx="8051760" cy="79704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4"/>
          <p:cNvSpPr/>
          <p:nvPr/>
        </p:nvSpPr>
        <p:spPr>
          <a:xfrm>
            <a:off x="755640" y="1125360"/>
            <a:ext cx="79297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Для расчета максимальной мощности, выделяемой в нагрузке, возьмем производную от Р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Palatino Linotype"/>
                <a:ea typeface="Courier New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 по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r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Palatino Linotype"/>
                <a:ea typeface="Courier New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 и приравняем ее нулю. В резуль­тате получим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5" descr="Описание: C:\Users\Moro\AppData\Local\Temp\FineReader11\media\image5.png"/>
          <p:cNvPicPr/>
          <p:nvPr/>
        </p:nvPicPr>
        <p:blipFill>
          <a:blip r:embed="rId2"/>
          <a:stretch/>
        </p:blipFill>
        <p:spPr>
          <a:xfrm>
            <a:off x="1835280" y="3357720"/>
            <a:ext cx="6072120" cy="133344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6" descr="Описание: C:\Users\Moro\AppData\Local\Temp\FineReader11\media\image3.png"/>
          <p:cNvPicPr/>
          <p:nvPr/>
        </p:nvPicPr>
        <p:blipFill>
          <a:blip r:embed="rId3"/>
          <a:stretch/>
        </p:blipFill>
        <p:spPr>
          <a:xfrm>
            <a:off x="928800" y="5572080"/>
            <a:ext cx="6429240" cy="10368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1"/>
          <p:cNvSpPr/>
          <p:nvPr/>
        </p:nvSpPr>
        <p:spPr>
          <a:xfrm>
            <a:off x="395280" y="5014080"/>
            <a:ext cx="89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Искомое отношение мощностей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915120" y="278136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Напряжение на нагрузочном сопротивлении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44" name="Picture 12" descr="image4"/>
          <p:cNvPicPr/>
          <p:nvPr/>
        </p:nvPicPr>
        <p:blipFill>
          <a:blip r:embed="rId4"/>
          <a:stretch/>
        </p:blipFill>
        <p:spPr>
          <a:xfrm>
            <a:off x="2000160" y="1285920"/>
            <a:ext cx="6143760" cy="125424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6"/>
          <p:cNvSpPr/>
          <p:nvPr/>
        </p:nvSpPr>
        <p:spPr>
          <a:xfrm>
            <a:off x="928800" y="92880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м мощность Р, доставляемую источником э. д. с.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C:\Users\Moro\AppData\Local\Temp\FineReader11\media\image5.png"/>
          <p:cNvPicPr/>
          <p:nvPr/>
        </p:nvPicPr>
        <p:blipFill>
          <a:blip r:embed="rId2"/>
          <a:stretch/>
        </p:blipFill>
        <p:spPr>
          <a:xfrm>
            <a:off x="468360" y="2421000"/>
            <a:ext cx="7786800" cy="11667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752040" y="3786840"/>
            <a:ext cx="755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5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к схеме рис. 1.59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м искомый ток по за­кону Ом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14" name="Picture 3" descr="image4"/>
          <p:cNvPicPr/>
          <p:nvPr/>
        </p:nvPicPr>
        <p:blipFill>
          <a:blip r:embed="rId3"/>
          <a:stretch/>
        </p:blipFill>
        <p:spPr>
          <a:xfrm>
            <a:off x="500040" y="4643280"/>
            <a:ext cx="7859880" cy="1071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46560" y="420840"/>
            <a:ext cx="5423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Найдем сопротивл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эквивалентного генератор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020600"/>
            <a:ext cx="79218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Для подсчета сопротивления генератора преобразуем его схему (см. рис. 1.59, г), заменив источник напряже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короткозамкну­тым участком (рис. 1.59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д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Входное сопротивление последней схе­мы является сопротивлением эквивалентного генератор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7" descr="Описание: C:\Users\Moro\AppData\Local\Temp\FineReader11\media\image8.png"/>
          <p:cNvPicPr/>
          <p:nvPr/>
        </p:nvPicPr>
        <p:blipFill>
          <a:blip r:embed="rId2"/>
          <a:stretch/>
        </p:blipFill>
        <p:spPr>
          <a:xfrm>
            <a:off x="642960" y="5572080"/>
            <a:ext cx="8140680" cy="936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2"/>
          <p:cNvSpPr/>
          <p:nvPr/>
        </p:nvSpPr>
        <p:spPr>
          <a:xfrm>
            <a:off x="539640" y="3141720"/>
            <a:ext cx="8072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 Часть схемы левее зажим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заменим эквивалентным гене­ратором напряжения с э. д. с. Е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сопротивлени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рис. 1.71,6). Найдем Е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 Для вычисления Е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отключим ветв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рис. 1.71, в) и определим напряж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а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между точками а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в режиме холостого хода, которая численно равна Е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48" name="Рисунок 2" descr="Описание: C:\Users\Moro\AppData\Local\Temp\FineReader11\media\image2.png"/>
          <p:cNvPicPr/>
          <p:nvPr/>
        </p:nvPicPr>
        <p:blipFill>
          <a:blip r:embed="rId3"/>
          <a:stretch/>
        </p:blipFill>
        <p:spPr>
          <a:xfrm>
            <a:off x="1979640" y="1844640"/>
            <a:ext cx="5429160" cy="111600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4"/>
          <p:cNvSpPr/>
          <p:nvPr/>
        </p:nvSpPr>
        <p:spPr>
          <a:xfrm>
            <a:off x="1147320" y="10526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Коэффициент передачи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4"/>
          <p:cNvSpPr/>
          <p:nvPr/>
        </p:nvSpPr>
        <p:spPr>
          <a:xfrm>
            <a:off x="214200" y="214200"/>
            <a:ext cx="871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rr равно сопротивлению цепи между зажимами а и b при закороченном источнике э. д. с. Е (рис. 1.71, г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в схеме, эквивалентной заданной (см. рис. 1.71,6), максимальная мощность выделится, если сопротивление нагрузки rн будет равно внутреннему сопротивлению генератора, т. е. при rн = rr = 20 ом. Следовательно, получено то же значение, которое было найдено. Максимальная мощность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3  К зажимам 1-Г цепи рис. 1.14, а и Ь подведено напряжение U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2 в. При какой величине сопротивления r2, подключенном к зажимам 2-2', в нем выделится максимальная мощность и чему она равна? Определить отношение мощностей, расходуемой в сопротивлении r2 к доставляемой источником. Вычислить коэффициент передачи, т. е. отношение напряжения на r2 к подведенному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 Входные и взаимные проводимости ветвей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51" name="Picture 4" descr="I:\AppData\Local\Temp\FineReader11\media\image1.png"/>
          <p:cNvPicPr/>
          <p:nvPr/>
        </p:nvPicPr>
        <p:blipFill>
          <a:blip r:embed="rId2"/>
          <a:stretch/>
        </p:blipFill>
        <p:spPr>
          <a:xfrm>
            <a:off x="1071720" y="857160"/>
            <a:ext cx="6732360" cy="857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I:\AppData\Local\Temp\FineReader11\media\image2.png"/>
          <p:cNvPicPr/>
          <p:nvPr/>
        </p:nvPicPr>
        <p:blipFill>
          <a:blip r:embed="rId3"/>
          <a:stretch/>
        </p:blipFill>
        <p:spPr>
          <a:xfrm>
            <a:off x="428760" y="3429000"/>
            <a:ext cx="835488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9"/>
          <p:cNvSpPr/>
          <p:nvPr/>
        </p:nvSpPr>
        <p:spPr>
          <a:xfrm>
            <a:off x="27000" y="5229360"/>
            <a:ext cx="90360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4" name="Прямоугольник 5"/>
          <p:cNvSpPr/>
          <p:nvPr/>
        </p:nvSpPr>
        <p:spPr>
          <a:xfrm>
            <a:off x="395280" y="54450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5" name="Прямоугольник 6"/>
          <p:cNvSpPr/>
          <p:nvPr/>
        </p:nvSpPr>
        <p:spPr>
          <a:xfrm>
            <a:off x="324000" y="333360"/>
            <a:ext cx="8572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4  Определить входные и взаимные проводимости ветвей схемы рис. 1.72, а, необходимые для вычисления токов, если r1= 15 ом, r2 = 12 ом, r3 = 10 ом, r4 = 40 ом, r5 = 20 ом, E1 = 25 б, E2 = 20 в, E3 = 50 в. Используя найденные значения проводимостей, вычислить все токи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входное (относительно зажимов ab) и взаимные (передаточные) сопротивления между первой и остальными ветвями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 Для определения входной проводимости g1 и взаимных проводимостей gn1(n = 1, 2, ... , 5) между первой и остальными ветвями исключим все заданные э.д.с. и положим, что в ветвь с r1 включена э.д.с., равная 1 в (рис. 1.72, б) и направленная, как э.д.с. Е1, при этом вычислим токи, вызванные ею в каждой из ветвей. Фактически расчет проще проводить методом пропорциональных величин, задавшись током в крайней первой ветви. В результате расчета получим, что I1=0,04 a,I2 = 0,02 а, I3 = =0,616 а, I4 = 0,004 а, I5 = 0,02 а. Их числовые значения равны соответствующим проводимостям, поэтому g1=I1= 0,04 сим, g21 = I2 = 0,02 сим, g31 = I3 = 0,016 сим, g41 = I4 = 0,004 сим g51 = I5=  0,02 сим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вычисляем входную проводимость g22 и взаимные проводимости между второй и остальными ветвями. Для этого аналогично предыдущему исключим все э.д.с., а в ветвь с r2 вводим э.д.с., равную 1 в (рис. 1.72, в) и имеющую направление э.д.с. E2, и вычислим токи, созданные ею в каждой из ветвей. В результате получим: I’’2 = 0,035, a; I’’1=0,02 а; I’’3 = 0,028 а; I’’4 = 0,007 а, I’’5 =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0,015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a,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а соответствующие входная и взаимные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22 (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= 1, 3, 4, 5) проводимости будут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22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= 0,035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12 =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0,02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32 =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0,028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42 =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0,007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52 = 0,015 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сим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3"/>
          <p:cNvSpPr/>
          <p:nvPr/>
        </p:nvSpPr>
        <p:spPr>
          <a:xfrm>
            <a:off x="3719880" y="61437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ис. 1.72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24720" cy="235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02000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777080" cy="227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812000" cy="256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7956720" cy="224316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3"/>
          <p:cNvSpPr/>
          <p:nvPr/>
        </p:nvSpPr>
        <p:spPr>
          <a:xfrm>
            <a:off x="3732480" y="57340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ис. 1.72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714240" y="714240"/>
            <a:ext cx="8001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Аналогично, введя в третью ветвь э.д.с., равную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\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и направ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Sylfaen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ленную, как и э.д.с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Е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(рис. 1.17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г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получим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"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= 0,0424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"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=  0,016 а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"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= 0,028 а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"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Sylfae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ylfaen"/>
              </a:rPr>
              <a:t> =0,0144 а;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0,01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соответст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ующие входную и взаимны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2, 4, 5) проводимости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= 0,042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0,01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0,028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0,014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g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5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0,01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м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1:57:59Z</dcterms:created>
  <dc:creator>Admin</dc:creator>
  <dc:description/>
  <dc:language>en-US</dc:language>
  <cp:lastModifiedBy>student</cp:lastModifiedBy>
  <dcterms:modified xsi:type="dcterms:W3CDTF">2014-06-07T08:14:02Z</dcterms:modified>
  <cp:revision>45</cp:revision>
  <dc:subject/>
  <dc:title>Оно сдвинуто по фазе по отношению к приложенному на­пряжению на угол φ= 38°. Векторная диаграмма приведена на рис. 3.6, б. Мощность, расходуемая в катушке,   Pкат =Re[Uкат I ] = Re [66.4e I38˚*7.9ei31˚5’] =Re[525e] = 525cos 69 5’ = 187 вт.   Та же мощность может быть подсчитана и другим путем:    Pкат =I2 r 7,92*3 = 187 вт.   3.8.   Катушка, параметры которой r1 = 4 ом и L1 20 мгн, соединена последовательно с другой катушкой, имеющей актив­ное сопротивление r2 = 5 ом и индуктивность L2 — 2,8 мгн. Ка­тушки включены на синусоидальное напряжение U « 120 в, ча­стотою f = 500 гц. Вычислить напряжения на каждой катушке, сдвиг фаз между ними, а также относительно приложенного напряжения, мощности, расходуемые в каждой из них.</dc:title>
</cp:coreProperties>
</file>